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95F-D6D4-4710-8C88-F923D889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37F-BFB6-46E7-9A40-72E9957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85C-A36A-4FD9-AB27-9CC6426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3DF-F0E1-4923-949F-1E524B4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120-D752-4A15-9065-5B8003C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82C-A2F2-471B-84B9-7B86D134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91B-B2F4-4938-BB2C-11379D2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823-1DB5-469B-A507-0DFD1651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754-9205-44E0-A1B3-5C57D221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673-9203-415A-8C3F-1ED86D5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CF8-5275-4AEB-AB9F-1244B09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2FC-49D9-4CA4-B951-F4DCA9F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079-FDC5-4F80-8643-12E5E915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imdb.com/rg/mediaindex/thumbnail/media/rm1416206336/nm0000069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503631360/nm0000054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1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8.jpeg"/><Relationship Id="rId24" Type="http://schemas.openxmlformats.org/officeDocument/2006/relationships/image" Target="../media/image9.jpeg"/><Relationship Id="rId25" Type="http://schemas.openxmlformats.org/officeDocument/2006/relationships/image" Target="../media/image10.jpeg"/><Relationship Id="rId26" Type="http://schemas.openxmlformats.org/officeDocument/2006/relationships/image" Target="../media/image11.jpeg"/><Relationship Id="rId27" Type="http://schemas.openxmlformats.org/officeDocument/2006/relationships/image" Target="../media/image12.jpeg"/><Relationship Id="rId2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7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11.jpeg"/><Relationship Id="rId18" Type="http://schemas.openxmlformats.org/officeDocument/2006/relationships/image" Target="../media/image10.jpeg"/><Relationship Id="rId19" Type="http://schemas.openxmlformats.org/officeDocument/2006/relationships/image" Target="../media/image8.jpeg"/><Relationship Id="rId20" Type="http://schemas.openxmlformats.org/officeDocument/2006/relationships/image" Target="../media/image12.jpeg"/><Relationship Id="rId21" Type="http://schemas.openxmlformats.org/officeDocument/2006/relationships/image" Target="../media/image24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9.jpeg"/><Relationship Id="rId25" Type="http://schemas.openxmlformats.org/officeDocument/2006/relationships/image" Target="../media/image25.jpeg"/><Relationship Id="rId26" Type="http://schemas.openxmlformats.org/officeDocument/2006/relationships/image" Target="../media/image16.jpe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 Opens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in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76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al Background: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-6, HQ &amp; Pre K- 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orced,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rank Sinatra, portrait for Kings Go Forth, 1958.&#10;Vintage silver gelatin, 7x13.5, signed. $900&#10;Â© 1978 Bill Avery&#10;MPT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. 1953&#10;Photo by Frank Powol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Robert F. Kennedy - Photo"/>
          <p:cNvPicPr/>
          <p:nvPr/>
        </p:nvPicPr>
        <p:blipFill>
          <a:blip r:embed="rId7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s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 Master’s in Reading 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Robert Frost"/>
          <p:cNvPicPr/>
          <p:nvPr/>
        </p:nvPicPr>
        <p:blipFill>
          <a:blip r:embed="rId10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ished ESL cours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6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President Kennedy, head and shoulders portrait photograph, looking up. Photograph distributed by the White House. "/>
          <p:cNvPicPr/>
          <p:nvPr/>
        </p:nvPicPr>
        <p:blipFill>
          <a:blip r:embed="rId11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Robert F. Kennedy - Photo"/>
          <p:cNvPicPr/>
          <p:nvPr/>
        </p:nvPicPr>
        <p:blipFill>
          <a:blip r:embed="rId12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came a Highly Qualified Tea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3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raduated College YEAH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ave life to daughter, Mar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, 1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ave life to son, Dan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3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152280" y="533520"/>
            <a:ext cx="141624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2057400" y="24382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2057400" y="31240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2057400" y="3733920"/>
            <a:ext cx="5302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2057400" y="4495680"/>
            <a:ext cx="53028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2057400" y="518148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2057400" y="5791320"/>
            <a:ext cx="530280" cy="58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3"/>
          <a:stretch/>
        </p:blipFill>
        <p:spPr>
          <a:xfrm>
            <a:off x="1219320" y="5334120"/>
            <a:ext cx="503280" cy="533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4"/>
          <a:stretch/>
        </p:blipFill>
        <p:spPr>
          <a:xfrm>
            <a:off x="1219320" y="6095880"/>
            <a:ext cx="43632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5"/>
          <a:stretch/>
        </p:blipFill>
        <p:spPr>
          <a:xfrm>
            <a:off x="685800" y="6095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6"/>
          <a:stretch/>
        </p:blipFill>
        <p:spPr>
          <a:xfrm>
            <a:off x="152280" y="6095880"/>
            <a:ext cx="46044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7"/>
          <a:stretch/>
        </p:blipFill>
        <p:spPr>
          <a:xfrm>
            <a:off x="609480" y="5334120"/>
            <a:ext cx="560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in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Educatio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-6 HQ, Pre-K – 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orced,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:          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K-6 HQ, Pre K-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ov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ivor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200400"/>
            <a:ext cx="4495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tudying for school, spending time with family and friends, reading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wimming, traveling and helping my community and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Oldies, Rock &amp; Roll, the 70’s, 80’s &amp; 90’s (everything but count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7 Brides for 7 Brothers, Sleepless in Seattle, You’ve got mai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P Chief, Big Brother, Project Runway, Rachel Zoe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Calder Series by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anet Daile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Wicked by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egory Magui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 Children’s 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61722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5105520"/>
            <a:ext cx="42670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read6100comer.wikispaces.com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- mail: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tmopenshaw4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52280" y="533520"/>
            <a:ext cx="152424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5238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ina and Frien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n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’s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838080" y="1905120"/>
            <a:ext cx="1143000" cy="1149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22096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tretch/>
        </p:blipFill>
        <p:spPr>
          <a:xfrm>
            <a:off x="838080" y="320040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"/>
          <a:stretch/>
        </p:blipFill>
        <p:spPr>
          <a:xfrm>
            <a:off x="5029200" y="1828800"/>
            <a:ext cx="1600200" cy="2590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1"/>
          <a:stretch/>
        </p:blipFill>
        <p:spPr>
          <a:xfrm>
            <a:off x="3505320" y="19051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2"/>
          <a:stretch/>
        </p:blipFill>
        <p:spPr>
          <a:xfrm>
            <a:off x="3581280" y="5105520"/>
            <a:ext cx="108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3"/>
          <a:stretch/>
        </p:blipFill>
        <p:spPr>
          <a:xfrm>
            <a:off x="152280" y="533520"/>
            <a:ext cx="69084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4"/>
          <a:stretch/>
        </p:blipFill>
        <p:spPr>
          <a:xfrm>
            <a:off x="21337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5"/>
          <a:stretch/>
        </p:blipFill>
        <p:spPr>
          <a:xfrm>
            <a:off x="3581280" y="3200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6"/>
          <a:stretch/>
        </p:blipFill>
        <p:spPr>
          <a:xfrm>
            <a:off x="2057400" y="5029200"/>
            <a:ext cx="1295280" cy="1139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7"/>
          <a:stretch/>
        </p:blipFill>
        <p:spPr>
          <a:xfrm>
            <a:off x="838080" y="5029200"/>
            <a:ext cx="10670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ina Openshaw</cp:lastModifiedBy>
  <dcterms:modified xsi:type="dcterms:W3CDTF">2010-09-06T16:54:27Z</dcterms:modified>
  <cp:revision>21</cp:revision>
  <dc:subject/>
  <dc:title>Profile</dc:title>
</cp:coreProperties>
</file>